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E178F-15CC-4057-9B64-8CC4D6D2E4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08" name=""/>
          <p:cNvCxnSpPr>
            <a:stCxn id="606" idx="2"/>
            <a:endCxn id="606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A60C7-1743-41F5-ADEC-5B03C928F1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5" idx="0"/>
            <a:endCxn id="615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17" name=""/>
          <p:cNvCxnSpPr>
            <a:stCxn id="615" idx="2"/>
            <a:endCxn id="615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EB028-1089-4D23-B520-A040DEBDE3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5920" y="453384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4" idx="0"/>
            <a:endCxn id="624" idx="1"/>
          </p:cNvCxnSpPr>
          <p:nvPr/>
        </p:nvCxnSpPr>
        <p:spPr>
          <a:xfrm>
            <a:off x="673200" y="45334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26" name=""/>
          <p:cNvCxnSpPr>
            <a:stCxn id="624" idx="2"/>
            <a:endCxn id="624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056C2-572C-478C-B0E3-8BA25D3F1A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33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5" name=""/>
          <p:cNvCxnSpPr>
            <a:stCxn id="633" idx="2"/>
            <a:endCxn id="633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2A7D9-78A6-4300-81A5-DF33060226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42" idx="0"/>
            <a:endCxn id="642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44" name=""/>
          <p:cNvCxnSpPr>
            <a:stCxn id="642" idx="2"/>
            <a:endCxn id="642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35BF059-094B-4657-8CFC-4B5DC3B2E239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BFEEE1F1-E96C-47D6-AFA8-DDFB6916FB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Devic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70 Produ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rch 2005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58000" y="381960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36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p-to-date 'candy bar'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rm colou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2000" y="3035160"/>
            <a:ext cx="3274920" cy="1012680"/>
            <a:chOff x="162000" y="3035160"/>
            <a:chExt cx="3274920" cy="1012680"/>
          </a:xfrm>
        </p:grpSpPr>
        <p:sp>
          <p:nvSpPr>
            <p:cNvPr id="103" name=""/>
            <p:cNvSpPr/>
            <p:nvPr/>
          </p:nvSpPr>
          <p:spPr>
            <a:xfrm>
              <a:off x="414360" y="3819240"/>
              <a:ext cx="302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wo pre-installed gam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303516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2560" y="3281040"/>
              <a:ext cx="114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30351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800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play: 101 x 64 pixels, b/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-chord 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560" y="328140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365904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l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5760" y="5443560"/>
            <a:ext cx="127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lladium B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7880" y="5443560"/>
            <a:ext cx="159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bble Light Sil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81680" y="1265400"/>
            <a:ext cx="1946160" cy="406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14720" y="1265400"/>
            <a:ext cx="1946160" cy="406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00" y="1063800"/>
            <a:ext cx="6818400" cy="36324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00" y="14270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00" y="11304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080" y="146052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16905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800" y="172404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600" y="19540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60" y="1987560"/>
            <a:ext cx="187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00" y="22176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080" y="225108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 Si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00" y="24811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251460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00" y="27446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5800" y="2778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30081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080" y="304164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00" y="32716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5080" y="33051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0" y="1460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78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4880" y="1724040"/>
            <a:ext cx="1308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4520" y="198756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h /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83800" y="225108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pix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82720" y="251460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Black / Wh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82000" y="27781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2000" y="30416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4160" y="330516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i-Ion 6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3535200"/>
            <a:ext cx="6818400" cy="36360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38988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640" y="360216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60" y="39322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41623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160" y="41958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44258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600" y="445932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mory Capac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46893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880" y="47228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49528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880" y="498636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00" y="52164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7240" y="524988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00" y="54799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800" y="5513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600" y="57434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8320" y="577692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b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81640" y="39322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MS, 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82000" y="41958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2000" y="44593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82000" y="4722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92440" y="4986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ri-band 900 / 1800 / 1900, 850 / 1800 / 19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2000" y="524988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82000" y="55134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2000" y="57769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/ 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712476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3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032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212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4640" y="137952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6120" y="146844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1760" y="1494000"/>
            <a:ext cx="11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54400" y="1192320"/>
            <a:ext cx="741240" cy="712800"/>
            <a:chOff x="2354400" y="1192320"/>
            <a:chExt cx="741240" cy="712800"/>
          </a:xfrm>
        </p:grpSpPr>
        <p:sp>
          <p:nvSpPr>
            <p:cNvPr id="193" name=""/>
            <p:cNvSpPr/>
            <p:nvPr/>
          </p:nvSpPr>
          <p:spPr>
            <a:xfrm>
              <a:off x="23544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0760" y="1562040"/>
              <a:ext cx="91800" cy="17928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0760" y="147312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0760" y="149688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0760" y="171288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0760" y="171288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4640" y="152712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6440" y="173340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4640" y="150192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4640" y="152568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48896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7600" y="15019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1640" y="148284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6680" y="148896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4360" y="147312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71640" y="1482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3200" y="147312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996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600" y="144936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3996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9720" y="144936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0600" y="144936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5680" y="144936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9720" y="144936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146196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568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5960" y="147312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5960" y="147312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76600" y="149868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1760" y="146196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52560" y="148104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148896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1525680"/>
              <a:ext cx="1000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57680" y="16477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120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848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22400" y="164772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772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3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4600" y="1647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9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864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7680" y="166860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120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848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166860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772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3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84600" y="166860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9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864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768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120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684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2400" y="169056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772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3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4600" y="16905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9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9864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768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5120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684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2400" y="171288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772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3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4600" y="171288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79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864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1280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3040" y="161280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0680" y="161280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1360" y="161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720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588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8480" y="161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5444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35440" y="1192320"/>
            <a:ext cx="741240" cy="712800"/>
            <a:chOff x="3835440" y="1192320"/>
            <a:chExt cx="741240" cy="712800"/>
          </a:xfrm>
        </p:grpSpPr>
        <p:sp>
          <p:nvSpPr>
            <p:cNvPr id="275" name=""/>
            <p:cNvSpPr/>
            <p:nvPr/>
          </p:nvSpPr>
          <p:spPr>
            <a:xfrm>
              <a:off x="383544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7360" y="154944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5760" y="179532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4400" y="145584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6200" y="151776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6200" y="151776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5920" y="163980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920" y="163836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5640" y="176832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5040" y="1450800"/>
              <a:ext cx="22320" cy="3204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2760" y="178128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33880" y="140796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6480" y="14209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284720" y="1463760"/>
              <a:ext cx="177840" cy="325440"/>
              <a:chOff x="4284720" y="1463760"/>
              <a:chExt cx="177840" cy="32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3440" y="148248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21800" y="152064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0208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9704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504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572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06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868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7200" y="1649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216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08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0208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704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504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572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06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7868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27200" y="167148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2216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408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208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9704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504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572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606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7868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27200" y="1694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216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408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208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9704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504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6572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06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868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27200" y="17164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2216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408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5720" y="161208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56360" y="161208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74360" y="161208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6120" y="161028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23600" y="1609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39440" y="1618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01720" y="161028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4680" y="160992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99200" y="1618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291280" y="1192320"/>
            <a:ext cx="741240" cy="712800"/>
            <a:chOff x="5291280" y="1192320"/>
            <a:chExt cx="741240" cy="712800"/>
          </a:xfrm>
        </p:grpSpPr>
        <p:sp>
          <p:nvSpPr>
            <p:cNvPr id="339" name=""/>
            <p:cNvSpPr/>
            <p:nvPr/>
          </p:nvSpPr>
          <p:spPr>
            <a:xfrm>
              <a:off x="52912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5840" y="166356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3920" y="166356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3760" y="158112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8480" y="156204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4360" y="150012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2000" y="153828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3000" y="16668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8320" y="16668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5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862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1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924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484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3440" y="16668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108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3000" y="16891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18320" y="16891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35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862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81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924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84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43440" y="1689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08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3000" y="17114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18320" y="17114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5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62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81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924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84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43440" y="1711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108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3000" y="17334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18320" y="17334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5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862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81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924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84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3440" y="1733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108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6280" y="162864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692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600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680" y="162720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4344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1080" y="163656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3000" y="162720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560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9760" y="16365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229600" y="1192320"/>
            <a:ext cx="741240" cy="712800"/>
            <a:chOff x="8229600" y="1192320"/>
            <a:chExt cx="741240" cy="712800"/>
          </a:xfrm>
        </p:grpSpPr>
        <p:sp>
          <p:nvSpPr>
            <p:cNvPr id="394" name=""/>
            <p:cNvSpPr/>
            <p:nvPr/>
          </p:nvSpPr>
          <p:spPr>
            <a:xfrm>
              <a:off x="82296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37400" y="144936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64400" y="162864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37400" y="1601640"/>
              <a:ext cx="150840" cy="13968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7960" y="150192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7320" y="150984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24960" y="15462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01280" y="1668600"/>
              <a:ext cx="172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96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1388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67800" y="1668600"/>
              <a:ext cx="15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6132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8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29640" y="166860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24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2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01280" y="16905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796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138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132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78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29640" y="16905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4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42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1280" y="171288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96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138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6780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6132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78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29640" y="171288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24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42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801280" y="173520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796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1388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767800" y="173520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132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78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29640" y="173520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24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42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67800" y="163512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58080" y="163512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74280" y="16351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72820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26400" y="1631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40800" y="164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01280" y="163188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813880" y="1631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99480" y="164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82720" y="1192320"/>
            <a:ext cx="741240" cy="712800"/>
            <a:chOff x="882720" y="1192320"/>
            <a:chExt cx="741240" cy="712800"/>
          </a:xfrm>
        </p:grpSpPr>
        <p:sp>
          <p:nvSpPr>
            <p:cNvPr id="449" name=""/>
            <p:cNvSpPr/>
            <p:nvPr/>
          </p:nvSpPr>
          <p:spPr>
            <a:xfrm>
              <a:off x="88272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140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6840" y="148896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124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3160" y="148896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2520" y="149868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0160" y="153504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9360" y="1662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468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1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1444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7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27040" y="1662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628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8924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9360" y="1684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468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1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444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07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7040" y="1684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7628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016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924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9360" y="1706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468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1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1444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7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27040" y="1706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628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924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9360" y="172872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468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1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44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07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7040" y="172872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628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016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8924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440" y="1625760"/>
              <a:ext cx="176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0508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2236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484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7160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8744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936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6196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612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386960" y="1405080"/>
            <a:ext cx="138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1520" y="139212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769080" y="1192320"/>
            <a:ext cx="741240" cy="712800"/>
            <a:chOff x="6769080" y="1192320"/>
            <a:chExt cx="741240" cy="712800"/>
          </a:xfrm>
        </p:grpSpPr>
        <p:sp>
          <p:nvSpPr>
            <p:cNvPr id="506" name=""/>
            <p:cNvSpPr/>
            <p:nvPr/>
          </p:nvSpPr>
          <p:spPr>
            <a:xfrm>
              <a:off x="67690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45200" y="148284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86680" y="160164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6680" y="148104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0120" y="160164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0120" y="148104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24760" y="148284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99280" y="166212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6600" y="166212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151596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01080" y="151596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3960" y="161928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50240" y="161928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51680" y="156852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9280" y="156852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99280" y="148284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2760" y="149544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224840" y="1487520"/>
              <a:ext cx="169560" cy="309600"/>
              <a:chOff x="7224840" y="1487520"/>
              <a:chExt cx="169560" cy="309600"/>
            </a:xfrm>
          </p:grpSpPr>
          <p:sp>
            <p:nvSpPr>
              <p:cNvPr id="524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42840" y="150552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60120" y="154152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3680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3176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4904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0224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9720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4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65520" y="1663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60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7812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3680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176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4904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0224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720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14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5520" y="168516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0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812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80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176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4904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224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720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14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7064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60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812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80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176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4904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224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9720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4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7280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0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812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02240" y="162864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93240" y="162864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10520" y="162864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64080" y="16268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192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77040" y="163512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36440" y="16268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868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33920" y="163512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5860440" y="1392120"/>
            <a:ext cx="132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81560" y="5545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62120" y="55436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3188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032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44400" y="3192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0720" y="2049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3188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81600" y="204948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089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0360" y="3192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3188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75880" y="3192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7600" y="2620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0032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2240" y="2620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10160" y="1959120"/>
            <a:ext cx="91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31880" y="3660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7280" y="37638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St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S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63520" y="2620800"/>
            <a:ext cx="109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31880" y="4224240"/>
            <a:ext cx="14702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46880" y="44179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0032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11920" y="2049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2040" y="26226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eLindeH</cp:lastModifiedBy>
  <cp:lastPrinted>2004-11-05T14:11:09Z</cp:lastPrinted>
  <dcterms:modified xsi:type="dcterms:W3CDTF">2005-03-15T07:48:51Z</dcterms:modified>
  <cp:revision>456</cp:revision>
  <dc:subject/>
  <dc:title>PowerPoint Presentation</dc:title>
</cp:coreProperties>
</file>